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223A-6AAB-41F8-8FFD-32B10973AB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A677-F368-4050-B287-EE407F2C657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E50-94CE-48A7-A60A-568DCBD056C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623B-B442-4768-A1C6-09121CC8F7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0D5-0FA6-40FE-8C6B-91625709DC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2EDE-2C72-4D48-9DDC-498035CEB2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AE9D-3EB8-450A-A4D3-0E7245D77E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35A-F65C-4B6C-A67F-1660A17389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0159-820A-401B-9E49-9F22BFE144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EB85-0907-4CB8-B669-5B7DFABC0B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AAE1-FF44-4A45-9A1D-1AC8B01E3EA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AEA7-5803-4F86-A058-75C56F1603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C5A9-884F-4073-8282-4669B0619CE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D7626-19C5-423B-8768-1F4B2E7E0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1A71A-8066-4EB3-8514-010C6E707D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7530E-393E-4A79-8DC1-11AA103C92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A3428-09BF-416F-94D0-685ABAE4F9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67D91-06A7-4820-BDEB-1A6666B61A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AFD8C-CF33-4E14-BF10-FD6BD4D20B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B85DD-A3B5-4405-9BEB-9D804119A0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D9655-5ADF-4CAC-8309-9911130F4A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8EA98-E7B8-4044-B480-C120BF46B7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9C439-A2C1-46BB-B142-49A5E01A8C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F13A4-A32C-446B-81E2-F7B805D1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C57FD-6034-4923-A839-39E7EBBE84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8446C-5E84-47E8-A731-17E6CCAA932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1C062-6CE1-4E27-AAA1-60BE99D6D7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357B4-49F3-40FF-A48E-321413392F7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937E6-FAAF-47D5-AA74-30DEC6AB0D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B62CB-B165-4D35-A581-926980149D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45A35-DD23-46F5-A516-359DB79420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0D85E-CAEE-40DC-B795-CA699061CB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E5578-BACE-4466-8419-8AA429174B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484A4-39B0-433F-87FE-13ED4640E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39EC-954F-4BE6-9FEB-C23F30D038B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47B82-E8B0-4A74-BB0B-1B853B16A2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0B0C1-CAB2-48A9-966A-7652BFE958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A7525-4E98-4ACA-8DAC-D0B4CD3293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CA1B-DDD9-4B74-ABE0-0D194CBADF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08D2-9886-46DE-9947-6A596B359E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1D44-667D-4251-97C6-6A1C6FB775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81AD-AAC4-40E7-A8BA-1C07DC21EE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BE44-7185-4CF6-93B9-5810806008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C744-62AD-4951-9BDB-0930A691E5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39DA-45EB-4601-AC9A-DEE24C187C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513B-D9F6-4B0D-814F-0720F52E8AB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A055-4839-4311-8C64-49BBF54A08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9B35-D540-41AA-A65E-23901ADAA4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B2DC-5E33-4F6F-8074-56339B2A465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F252-5FB5-421C-9D7B-F9B7DFE017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ED7D-7286-44FC-B798-139C71F1731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50798-2981-45D1-A910-6797A7F5305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07A64-999D-4D00-A477-24216F5BC20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6D84C-F49F-410A-8DDA-AEB337A3B68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0B263-4482-4807-B7D9-A5FEC317781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D9E31-7C62-4998-A230-EA3DD9B2C9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B669-B5A4-4DCC-B212-BC5614C5ED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B0FF3E-1E37-4305-84B1-B7AE3B7DCF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14D92-B94C-41E8-BE31-FF676A87600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F8FB5-6049-425F-A527-BF89184E246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45ECD-A429-4E1B-9257-50A37F94D04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8D007-0242-4C58-8998-CEEBECD2B8A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23E7F-C8E8-4F2E-8AF2-CE5A044CEC1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02CF0-1FC8-450D-9BCF-239536DA0A2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88DCE-9F84-446A-968E-3D6BC67F4AE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1C772-5394-4CBF-811E-04F2C4E0CC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69A35-6438-4802-BF10-20F1178959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C1A8-4EC8-46A9-A934-C7C20EDFC1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6B493-112F-46E6-9A0A-22620D2B43D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AD0AA-D48D-41E2-80A7-B8C29526DC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DCA20-0E8B-4C35-9AAC-1B5125A1F3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7D53A-3F08-4D58-AF68-9233923144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CAC2E-2365-426F-8AA3-05B0467E25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9B6E1-DE1D-413C-9D98-80FAC4A0167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86AB2-AB28-45E4-8A41-1F49BE1465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ED6E5-DD9F-4E9C-A09A-1C5AD4A005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FF8CF-82E6-44CF-85CF-6D55FFCCEF7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9CEF-0874-429B-941E-6C3638D4C2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DA5D-B8AB-4476-A978-65C4C368FBD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370E-9BDD-45CC-B3D7-E8AE1D2A092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0CA3-C8BC-421F-AB01-CC5A5AE907B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AA8B-E346-49B8-A9AE-72ABC67D244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B50C-8D5D-4B1D-877A-61AF421F41B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732D-91B0-4761-9337-E4D2FAC6D2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6131-1D6E-4C4E-84CC-026E0E25F23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AD34-BA69-4A05-AF1E-FDD9082F45B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937B-3EB1-4FBD-BF47-9D473C38939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D7CA-30E6-4CDB-A3DA-AF6216528BB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363B-7FE1-4569-ADDB-E338074949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1955-A3F6-454B-886A-6640AEDF74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9350-CAFA-4E6E-87A2-6F61F3B5ACE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0900C-38E5-4A36-8C47-AED41F2F7CB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29CAB-F983-4BD0-984B-B8598DBDC5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976AD-6160-4BE0-B7CD-D359FF7F65E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4B026E-34A3-4C5D-A935-4C480572787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6A237-0FF0-4427-B8D0-87033FCCAFA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0AF291-5F27-4B66-99A0-D0A8DAA232A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D8453-474C-4998-BC86-2553EB88CE8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D7345-3E0D-41AF-9C24-75124432DC5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478DF-7710-4ED5-BA61-BD6A6898F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235F-4EF1-4B67-B910-7D7EB92F707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AFB436-529E-4F3B-BDC3-A38233EB9AD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10035-B69E-4A9D-AA56-4126A8850CC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49CC0-06DD-47E0-8EA0-0A66906A8FA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3768D-E88B-434D-93E3-8C1637E6D55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FCD47-BAE5-4239-B72F-D85639CB2D0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E083F-8F01-4147-8AF6-D1D9C338038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9EA7D-1379-4562-8998-6CD399825AC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A2A67-D77B-44A1-975E-4874624B52E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EAB35-A09F-4220-97EA-193FCEA48E0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EA780-6122-4C4B-92AF-8B4FF81C4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A7C0-2309-4A1E-A3B8-AE6E4747209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0A02C-1578-4306-A600-0AA0010F865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6C6BD-F729-4837-96F0-2C065918CF0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9427A-6485-4485-888B-C84AF2972AF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36191-24C2-4D7F-B988-7AEE1689876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2A84C-FF93-403D-8E38-C936B13240A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7EBA-0035-4B18-BE6C-4D91BB1FC5B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F7BEF-0580-4FE5-B000-EEF73C5BBD1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B6BDA-427F-49C3-8E5C-064096216C9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77D3-1F65-4372-B8D5-7204A0EBB36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7EA8-C40E-4B8E-A5AB-AA3656E90F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7535-5C72-42B4-9009-F6011DA336A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A276-7FF0-4F10-847D-DCD61B3AA3C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185E-CB72-4F75-B39D-33043612A63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067B-0598-4AD6-A4C2-20354D849D8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4D1D-E6E9-4557-B294-4AB1C4FAAC3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36DE-E653-4C1E-9EE8-5DB925069B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797A-A922-4136-BDA5-C7A58DC5CA8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EF1B-41D8-46E9-B549-D726F72022C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8E6D2-AED6-4679-8A91-0C13A2B58E1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96A6D-51B3-4DB8-A706-18AE918BCF9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0F92D-4452-4AC7-A537-77B3411760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E9E1-4A12-40F4-867B-F74E3F3A854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6CD98-8510-49C5-8D25-2CE923EDB68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BDA9A-757E-4310-8A6E-A082FA50E60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F47E5-90C6-42B6-9A0A-3DDA30224E9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0A87AC-A44C-4DBF-BB0E-9F2CF11DA3B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3580BA-A339-4BDF-807F-79272CFED5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1EE69-56FC-4C02-83F3-76B966F5433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80560-3F7C-4240-BDEC-D053B2DEE1A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445A31-ACA8-4C45-8B2B-077515857E2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0412B1-A379-43DA-B17A-F2BB8FA161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C9E14-837A-4235-8289-BA3FB2D086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41F0-0512-47DF-BE54-B61AF688995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E49D8-2BD2-48B8-9457-29E55B04319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48A7E-B217-4D74-B016-A5DE06F6901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27C72-362F-40F7-8010-1FD4168BFA6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750A7-F68D-4276-A732-FAF9F5345A4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9762C-8F4B-4005-9B49-D24EA97D6A6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3967B-04CA-4096-A512-D49C357E9B4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93F59-CA4F-426A-9195-77FA95583B8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B443E-2919-482F-9F05-2370000236F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61A83-4C4F-41E6-99BF-1EBE5210938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C294A-0D10-4B39-BD76-38C570A4B4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E1AD-8D2A-4598-96DB-2BFC692EA6B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30601-6448-44CC-AD76-F8C08F562CC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A932-10C5-48BD-A8CC-DD4C1EB25C1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93F0-29BF-46A8-835B-45E89E032C7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20C4-6E72-43C8-B9D5-A2E38DB15F6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433D0-E1E0-4E98-BD60-6E46CF2D173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FB85-A939-493E-B239-C5D324972E9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571A-EE95-4C48-85D0-F2F09E07D1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1E1A-3E1E-4236-9DF8-2568BCA5189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95F6-5F95-4187-8FC5-15A87144AB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2B71-C51E-467B-BDC5-E5E35E89A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3585E-1302-4FB0-98C7-049CA37BC60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912A-71D2-4D0E-A8DA-30C16901E5D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8A462-76DE-4980-A976-3BC31F0C2F1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7CAFD-A168-4D73-8E99-5A16CF3825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89ACF-7246-473A-9415-EC4E729B246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08F51-3093-492E-A578-6698FCC8AFB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03AF3-DC0F-4B11-BAF9-3A81B3F71AA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21F97C-0B5A-412C-A293-40C0853BF90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48B81A-AFD4-49CA-B951-62E41B768D9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19633-ABF3-4001-92DD-1E1996459D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8C333-D2E3-4963-B63B-CD50C892E75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C67E7C-8792-48DE-8B49-D4AA8D616EE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478B4C-67F7-4053-9C4A-B504FE30386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0F679D-1057-48BC-9B23-F26854FE4C9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34C3F9-3982-4B11-906D-3C7DF8FF35A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CC5D2-51F3-4988-B610-F648FC5CFCC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D79BB-A354-472C-BB1D-0196028AC68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BBB06-5215-4791-B8B3-AD5B170D9AD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46223-DBEC-478C-AD14-540DDE5941A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E5C09-0096-4CDA-837D-BFAFB11ADB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6AA41-2185-42C8-A950-D75E001008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31E83-E450-4C21-8825-66E4FBD14D5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A227F-AF16-414C-A6ED-2A92F1E7AEA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7822B-119B-4F9D-9D5C-17E5E78D677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71785-E1AC-437E-B680-0AEA0FA0D1E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089E2-DCD4-4C74-9BE9-CF868032B93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66EF9-F746-4600-8182-C247EF82D12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E9C7-BD1F-4936-BB79-0DC44A59467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6730-CEAF-4981-8A72-133F12CCB2D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51ADE-1AA2-4611-A9B8-D25C51C2F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58F20-B101-40AB-BE3B-91C6FF7D503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0E60-35F3-4915-9BA9-7FB70EA6A1E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E615C-BB0D-41FA-BE01-C872AAE0055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DEB9-F35E-46CD-8435-9FA7B2485BF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E07A-04FA-4EC4-8D98-D70B10398A2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CB40-E393-4082-934E-B1D89C8193A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1AAD4-8E9A-41D8-8746-12CC0CF69EA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37A6-6725-40A0-A1FA-E4D82641DE4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F2C31-6AE3-4505-B108-075FFD8D633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04D913-B21F-4FF0-93D8-2E56F51BB4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F95CC-480B-4265-9BAA-1B68677A2C8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03AAA9-198B-4906-99E1-E3CBFEB4207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6DFC45-4014-411D-9933-3E709F5A9D8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9006C-E221-4780-AFF9-D8B1FCD9AD1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892A0C-2B2D-48CE-BA42-170BC5F476F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3C33B-5AFB-4968-BF1B-AF4BE2C8258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A0F471-A6BD-4F90-9D80-8762F52CA82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A5DCF-D8DE-4995-82E9-05FDCF84A79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D79604-D1F0-47EE-863D-FE6D0939A85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4AFF7-3F1A-4280-B36C-EC6FF11B6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A5A2C0-8F92-4D36-809A-43F426D72D2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2E04A-456C-4AEE-8485-420E1642B0B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8B338E-38F3-4A64-B4B2-263734E819D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FA966-2017-4895-A6CF-3361DAF8848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5B7FA-C2C6-4408-829D-6055C4073E7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42F3F-8A2E-49FA-A9CD-E7A646D686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B310F-4F0F-495D-A271-68E9F260D7E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736269-218A-4DE1-ACA5-E46650E1C2D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21AC3-0B76-4CA3-BBDD-F396CCF72E0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F02D7-C33B-43CE-83DB-9E62AD65AB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68873-7A43-41BE-AB4A-9CAD04160FC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0C6FB-3E59-4542-9E06-84094BFB22C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876DA-AAFB-42E6-9FDE-657601B560C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A2AA-ABBE-403D-B8F7-BEB42EDC953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25C50-04B6-466A-A19B-A025480D67F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F7AB-4E40-48EA-BC58-591EE34451F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1BD4A-BA84-4D83-A923-911AF130B9B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F33B-EA0D-4ED0-9C7F-9435EC7B1E9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1E81-EF9E-4B66-90CF-D576594F61C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45119-93F0-4865-A0A0-FD0E04DC8A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3867-2B8B-4EDF-BF39-705C768B57F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92FE9-4CCB-4B09-A72D-B74F02EBFC9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26BE9-43B8-4592-A77E-48EA95F76A4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32FE5-CBB5-43AA-8379-464FAAFFA78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7E46-5E36-4FEE-9012-B17C6D8224A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00E5-83B4-4DE0-AFB4-F9DAF28A29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9D47-BF9D-4940-821F-B18A4D27E4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D77C-D078-47AB-ACAE-6BA98F47C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FB28-A5AC-4CA3-8FF5-DE2BBA3A8E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7CD2-65BE-4FC9-8F01-AD20509746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EE14-24B3-462F-B615-61A518EAD4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EEE2-7B3D-488C-B0DD-B69D9A51AF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7B70-3C95-402B-B998-7AD7AD2E21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F4E1-0FF5-46F6-86DE-0985F8608C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EDA4-009F-4DBA-8E92-3FC0B65202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F5C4-B9B3-4DD4-A6E3-15907DD3E9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F6D3-271A-4E86-B7FC-DB8542FE32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EA6-479C-46CB-8B09-6C92545B6F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4B7-9D01-42CD-ADC3-F52A9F6D6F9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ADB-FEFD-49BC-ABFE-F2A2F7825F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EA7-539C-46A1-9AE6-D6498BD7C4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DC8-4EB1-4E67-8A9A-5775033E21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046-9E59-495A-9366-5453A42806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A60-D2D2-47B8-94A5-4FE35D1EEF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69F-F4CF-4369-9338-7B9DCE1B9C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0FA-9E6B-4B23-92B2-8C8CA7DD8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CB9-61A3-494B-B8A7-24FFD1C62E1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06F-0BCC-41C1-93DE-365B59F7B2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ED8-0CAD-4FC3-B309-E3DA7F9EF5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4A2B2-8A20-4192-8AEC-C349F400A2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C0F06-6E70-434B-B100-B4E0D6186F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02B7D-06DD-413D-9F72-D860BEF0DD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4BB63-5C91-4CAF-8090-665329361E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F269-CC5B-43F0-943C-C050D098B0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D8E2F-591E-4046-BE00-3D46E4F1F0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37A9C-9859-4DD3-953D-0530EB972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4B24-25ED-428C-AEF4-D2633CBB40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6E2BA-5434-46CF-ABE0-32BCD0D046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90D59-7356-43DF-933F-C9AD29AF87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8C1AC-06E0-4507-9ED3-093A2939B5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35BB9-6D8A-4A2A-B417-5EB602E2CF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43379-4750-4999-9C15-14AC227327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AD345-661D-4DB8-9F9E-A7EA28E963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71518-B1CF-4FCA-A766-07DF7342A8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DDA78-39DD-4744-BFF6-16840AC9F0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E2F2A-0AA9-4BCC-9278-606BFF85A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F6498-F609-4413-9B61-30DDC6639CC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CFC9-4ADD-49AA-B71C-81944A1109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8436E-5FBD-4D99-8968-3825098EFB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3BAED-6F1D-4734-85B8-2D334A2AAD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51D8-023D-4A22-97B4-EFCE635CD8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B90A-F4E6-4C9F-8176-DB95343369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5432A-6F52-4FA8-AFB7-F09C9F867C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927-60C1-4C6A-BE14-95BC83532C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A4D4-5E93-468B-95A7-7EDB7609C2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1A17-EEE3-41C4-B7C2-F06F07F33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B92D-ECC4-486D-8C9D-9A09CDB7DCD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0A52-5345-4264-954C-22621479330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37A0-9B7C-408F-89A6-2E1E602C0A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4904-47DB-4BC5-A33E-B8052D76A31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BD4E-A199-412F-B6D4-2443051A52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856F-B670-4D5C-AB83-E5B53657EF0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4F91-E736-4B58-9759-2324747AAA8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506-8B80-4A7A-8AB6-9894A039F2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F9DB-265E-4D53-ACE7-140EAFFCC6B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1334-EAEC-4440-A58D-A3F21D7580F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62B-A2BB-41B1-9590-032AB9EA02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C451-206D-4797-A6E0-C89C249BF8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772F-D598-4C40-A6A3-DFE3CDAD618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F19-33D1-4AC8-9D19-47610BEA9F8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C311-F4C1-4A9F-AB52-4D374DA515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2AE-0027-4355-BEE8-D34AE11C475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7F5-EC1F-45D6-8E9A-5D61C20E0F5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7CE2-0558-4F07-AE30-FE147165F84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AE9-E519-4302-BCF6-4A77B21B8AE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8D94-BAC1-4629-8BAB-A1717057602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F54-A900-4B82-B401-7F3C37A331E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0207-85AE-4249-9A9F-74FA720EABA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775-402F-4F38-B1D8-1C7F81C3947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1C38-7DAF-4D63-84EA-93E8D1A0D85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Tu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404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-36360" y="5516640"/>
            <a:ext cx="92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390680"/>
            <a:ext cx="77310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404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682560" y="52372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891360" y="50338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95480" y="1484280"/>
            <a:ext cx="6676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295280" y="620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5 CuadroTexto"/>
          <p:cNvSpPr/>
          <p:nvPr/>
        </p:nvSpPr>
        <p:spPr>
          <a:xfrm>
            <a:off x="873000" y="4970520"/>
            <a:ext cx="16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900000" y="5343480"/>
            <a:ext cx="7739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826920" y="1711440"/>
            <a:ext cx="75661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91240" y="49230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114560" y="5218200"/>
            <a:ext cx="7705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1119240" y="1623960"/>
            <a:ext cx="6975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9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5 CuadroTexto"/>
          <p:cNvSpPr/>
          <p:nvPr/>
        </p:nvSpPr>
        <p:spPr>
          <a:xfrm>
            <a:off x="1282320" y="4983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4"/>
          <p:cNvSpPr/>
          <p:nvPr/>
        </p:nvSpPr>
        <p:spPr>
          <a:xfrm>
            <a:off x="1262160" y="5199120"/>
            <a:ext cx="734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4" name="1 Imagen" descr=""/>
          <p:cNvPicPr/>
          <p:nvPr/>
        </p:nvPicPr>
        <p:blipFill>
          <a:blip r:embed="rId1"/>
          <a:stretch/>
        </p:blipFill>
        <p:spPr>
          <a:xfrm>
            <a:off x="1517760" y="1630440"/>
            <a:ext cx="61498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5 CuadroTexto"/>
          <p:cNvSpPr/>
          <p:nvPr/>
        </p:nvSpPr>
        <p:spPr>
          <a:xfrm>
            <a:off x="2093760" y="5573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836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gosto -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1 Imagen" descr=""/>
          <p:cNvPicPr/>
          <p:nvPr/>
        </p:nvPicPr>
        <p:blipFill>
          <a:blip r:embed="rId1"/>
          <a:stretch/>
        </p:blipFill>
        <p:spPr>
          <a:xfrm>
            <a:off x="195120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2 Imagen" descr=""/>
          <p:cNvPicPr/>
          <p:nvPr/>
        </p:nvPicPr>
        <p:blipFill>
          <a:blip r:embed="rId1"/>
          <a:stretch/>
        </p:blipFill>
        <p:spPr>
          <a:xfrm>
            <a:off x="1579680" y="1617840"/>
            <a:ext cx="6394320" cy="2197080"/>
          </a:xfrm>
          <a:prstGeom prst="rect">
            <a:avLst/>
          </a:prstGeom>
          <a:ln w="0">
            <a:noFill/>
          </a:ln>
        </p:spPr>
      </p:pic>
      <p:pic>
        <p:nvPicPr>
          <p:cNvPr id="1321" name="1 Imagen" descr=""/>
          <p:cNvPicPr/>
          <p:nvPr/>
        </p:nvPicPr>
        <p:blipFill>
          <a:blip r:embed="rId2"/>
          <a:stretch/>
        </p:blipFill>
        <p:spPr>
          <a:xfrm>
            <a:off x="1619280" y="3994200"/>
            <a:ext cx="61516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yac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747720" y="1773360"/>
            <a:ext cx="7296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870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5457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515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725560" y="4738680"/>
            <a:ext cx="619308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59007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1441440" y="250524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69228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1949400" y="5500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616040" y="1971720"/>
            <a:ext cx="6105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2525400" y="5805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514520" y="1662120"/>
            <a:ext cx="61149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76500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200160" y="242100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Oscar Eduardo Reyes Nieto</cp:lastModifiedBy>
  <cp:lastPrinted>2015-02-02T21:17:46Z</cp:lastPrinted>
  <dcterms:modified xsi:type="dcterms:W3CDTF">2015-12-11T13:06:17Z</dcterms:modified>
  <cp:revision>94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